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D20-A7D0-41DC-AE53-B11AFD68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FF0-6EB0-49DA-BEB5-F4924579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0BF-D7EF-4821-80A1-F9568CD4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4AF-9DF1-4813-9655-64B3CA03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426E-2264-4678-977F-6E476D6C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E77C-C49F-4616-A27E-227CA3E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E9E8-1A4D-4CF7-9E57-8B2B14D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CEF0-15FC-42AA-B52F-F73AE5F3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3D64-2009-4DA6-9E17-BEDA714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49A-A96B-4C48-8A11-57D54052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E8F4-B7AB-4C89-808B-FA535B03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A1A-0C28-4951-8BB0-860E4023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6C91-F68B-47B0-B7CC-2C220E6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DE2C-C64F-470A-BA03-92E17DDE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64D8-F8F1-4E16-B77C-9963E520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4DED-ACF8-4051-98F6-6CC4DBAD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F656-8E6B-4F08-B210-62FA6D10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52D-80FF-45B1-BCF7-15A735B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31D-C797-44E8-A530-A68D0CEF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EE6-EAF7-4EC7-BA5B-43D8F52D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9B8-01E4-458D-81AB-77244009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472-C4B3-4991-8E92-EDB4815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D97-3FCC-41B2-B9C9-04956AE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5F0-CF38-4CD5-AC24-EC18BCB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D03C-D744-42B7-9783-1AE093D52B7E}" type="slidenum"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71E9-27A0-4FBD-84EE-B9A749175CCF}" type="slidenum"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2640" y="51321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MA" sz="2400" spc="-1" strike="noStrike">
                <a:solidFill>
                  <a:srgbClr val="d60093"/>
                </a:solidFill>
                <a:latin typeface="Dubai"/>
                <a:cs typeface="Dubai"/>
              </a:rPr>
              <a:t>عرسي عبد العزيز</a:t>
            </a:r>
            <a:br>
              <a:rPr sz="2400"/>
            </a:br>
            <a:r>
              <a:rPr b="1" lang="ar-MA" sz="2400" spc="-1" strike="noStrike">
                <a:solidFill>
                  <a:srgbClr val="d60093"/>
                </a:solidFill>
                <a:latin typeface="Dubai"/>
                <a:cs typeface="Dubai"/>
              </a:rPr>
              <a:t>رئيس المنتدى المغربي للصم</a:t>
            </a:r>
            <a:br>
              <a:rPr sz="2400"/>
            </a:br>
            <a:r>
              <a:rPr b="1" lang="ar-MA" sz="2400" spc="-1" strike="noStrike">
                <a:solidFill>
                  <a:srgbClr val="d60093"/>
                </a:solidFill>
                <a:latin typeface="Dubai"/>
                <a:cs typeface="Dubai"/>
              </a:rPr>
              <a:t>أستاذ باحث</a:t>
            </a:r>
            <a:r>
              <a:rPr b="1" lang="ar-MA" sz="2400" spc="-1" strike="noStrike">
                <a:solidFill>
                  <a:srgbClr val="d60093"/>
                </a:solidFill>
                <a:latin typeface="Dubai"/>
                <a:ea typeface="Duba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55640" y="4076640"/>
            <a:ext cx="82296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صم والتمثلات </a:t>
            </a:r>
            <a:r>
              <a:rPr b="1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اجتماعية</a:t>
            </a:r>
            <a:r>
              <a:rPr b="1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Dubai"/>
                <a:ea typeface="Dubai"/>
              </a:rPr>
              <a:t>Les Sourds et la représentation sociale </a:t>
            </a:r>
            <a:r>
              <a:rPr b="1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Image 2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1863720" cy="168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RÃ©sultat de recherche d'images pour &quot;conseil supÃ©rieur de l'Ã©ducation maroc&quot;"/>
          <p:cNvPicPr/>
          <p:nvPr/>
        </p:nvPicPr>
        <p:blipFill>
          <a:blip r:embed="rId2"/>
          <a:stretch/>
        </p:blipFill>
        <p:spPr>
          <a:xfrm>
            <a:off x="6732720" y="2333520"/>
            <a:ext cx="1865160" cy="16239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611280" y="1009800"/>
            <a:ext cx="8229600" cy="21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800000"/>
                </a:solidFill>
                <a:latin typeface="Dubai"/>
                <a:cs typeface="Dubai"/>
              </a:rPr>
              <a:t>الندوة الدولية حول الحق في التربية الدامج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800" spc="-1" strike="noStrike">
                <a:solidFill>
                  <a:srgbClr val="800000"/>
                </a:solidFill>
                <a:latin typeface="Dubai"/>
                <a:cs typeface="Dubai"/>
              </a:rPr>
              <a:t>المجلس الأعلى للتربية والتكوين والبحث العلمي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Dubai"/>
                <a:cs typeface="Dubai"/>
              </a:rPr>
              <a:t>الجامع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بالرجوع الى بوابة البحث العلمي </a:t>
            </a:r>
            <a:r>
              <a:rPr b="0" lang="en-GB" sz="3200" spc="-1" strike="noStrike">
                <a:solidFill>
                  <a:srgbClr val="003366"/>
                </a:solidFill>
                <a:latin typeface="Dubai"/>
                <a:ea typeface="Dubai"/>
              </a:rPr>
              <a:t>www</a:t>
            </a:r>
            <a:r>
              <a:rPr b="0" lang="fr-FR" sz="3200" spc="-1" strike="noStrike">
                <a:solidFill>
                  <a:srgbClr val="003366"/>
                </a:solidFill>
                <a:latin typeface="Dubai"/>
                <a:ea typeface="Dubai"/>
              </a:rPr>
              <a:t>.</a:t>
            </a:r>
            <a:r>
              <a:rPr b="0" lang="en-GB" sz="3200" spc="-1" strike="noStrike">
                <a:solidFill>
                  <a:srgbClr val="003366"/>
                </a:solidFill>
                <a:latin typeface="Dubai"/>
                <a:ea typeface="Dubai"/>
              </a:rPr>
              <a:t>otrohati.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حوالي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29000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 مشروع بحث مسجل لدى مختلف الجامعات المغربي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عدد المشاريع المتعلقة بالاعاقة حوالي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2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عدد المشاريع المتعلقة بالتوحد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عدد المشاريع المتعلقة بتدريس الصم </a:t>
            </a:r>
            <a:r>
              <a:rPr b="0" lang="ar-MA" sz="3200" spc="-1" strike="noStrike">
                <a:solidFill>
                  <a:srgbClr val="003366"/>
                </a:solidFill>
                <a:latin typeface="Dubai"/>
                <a:ea typeface="Dubai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Espace réservé du contenu 4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471920" cy="2611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2124000" y="601812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ail: arssi.abdelaziz@gmail.co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Dubai"/>
                <a:cs typeface="Dubai"/>
              </a:rPr>
              <a:t>بعض الاحصائيا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09640" y="2133360"/>
            <a:ext cx="808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400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مليون على مستوى العال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333000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يعيشون بدرجات مختلفة من الصمم بالمغر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حوالي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32900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طفل بين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5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و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5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سنة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مدرسين باقسام الدمج المدرسي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06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مدرسين داخل المراكز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46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مدرسين داخل الأقسام العادية </a:t>
            </a:r>
            <a:r>
              <a:rPr b="0" lang="fr-FR" sz="2800" spc="-1" strike="noStrike">
                <a:solidFill>
                  <a:srgbClr val="003366"/>
                </a:solidFill>
                <a:latin typeface="Dubai"/>
                <a:ea typeface="Dubai"/>
              </a:rPr>
              <a:t>146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عدد المترجمين المسجلين بلائحة الخبراء لدى وزارة العدل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18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نصيب الصم من الاعلام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5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دقائق كل أسبو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971640" y="2852640"/>
          <a:ext cx="7646760" cy="3602160"/>
        </p:xfrm>
        <a:graphic>
          <a:graphicData uri="http://schemas.openxmlformats.org/drawingml/2006/table">
            <a:tbl>
              <a:tblPr/>
              <a:tblGrid>
                <a:gridCol w="3406680"/>
                <a:gridCol w="2025720"/>
                <a:gridCol w="797040"/>
                <a:gridCol w="620640"/>
                <a:gridCol w="796680"/>
              </a:tblGrid>
              <a:tr h="4899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iveau d'éduc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Sourds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veugles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rbai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Sans éduc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.4 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9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.9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.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éscolaire (normal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 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4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éscolaire fondamentale (Ecoles Coraniques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5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imair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lèg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6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ycé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7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ucation Non Formell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7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seignement Supérieur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0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n déclaré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1"/>
          <p:cNvSpPr/>
          <p:nvPr/>
        </p:nvSpPr>
        <p:spPr>
          <a:xfrm>
            <a:off x="1735200" y="871560"/>
            <a:ext cx="672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ableau 6 Taux de scolarisation par niveau d</a:t>
            </a:r>
            <a:r>
              <a:rPr b="1" lang="fr-FR" sz="1100" spc="-1" strike="noStrike">
                <a:solidFill>
                  <a:srgbClr val="003366"/>
                </a:solidFill>
                <a:latin typeface="Times New Roman"/>
                <a:ea typeface="Arial"/>
              </a:rPr>
              <a:t>’é</a:t>
            </a: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ude (%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ource : Haut-Commissariat au Plan (2014)</a:t>
            </a:r>
            <a:r>
              <a:rPr b="1" i="1" lang="fr-FR" sz="1600" spc="-1" strike="noStrike" u="sng" baseline="30000">
                <a:solidFill>
                  <a:srgbClr val="000000"/>
                </a:solidFill>
                <a:uFillTx/>
                <a:latin typeface="Times New Roman"/>
                <a:ea typeface="Calibri"/>
              </a:rPr>
              <a:t>[1]</a:t>
            </a:r>
            <a:r>
              <a:rPr b="0" lang="fr-FR" sz="1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24040" y="6521400"/>
            <a:ext cx="779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 baseline="30000">
                <a:solidFill>
                  <a:srgbClr val="954f72"/>
                </a:solidFill>
                <a:uFillTx/>
                <a:latin typeface="Arial"/>
                <a:ea typeface="Times New Roman"/>
              </a:rPr>
              <a:t>[1]</a:t>
            </a: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http://www.hcp.ma/search/handicap/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055520" y="2579760"/>
          <a:ext cx="7525080" cy="3446280"/>
        </p:xfrm>
        <a:graphic>
          <a:graphicData uri="http://schemas.openxmlformats.org/drawingml/2006/table">
            <a:tbl>
              <a:tblPr/>
              <a:tblGrid>
                <a:gridCol w="2926080"/>
                <a:gridCol w="1726920"/>
                <a:gridCol w="1127160"/>
                <a:gridCol w="174492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culin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éminin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x Gener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3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4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plu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s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1" name="Rectangle 1"/>
          <p:cNvSpPr/>
          <p:nvPr/>
        </p:nvSpPr>
        <p:spPr>
          <a:xfrm>
            <a:off x="1368360" y="735840"/>
            <a:ext cx="61563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ableau 7 Taux d</a:t>
            </a:r>
            <a:r>
              <a:rPr b="1" lang="fr-FR" sz="1100" spc="-1" strike="noStrike">
                <a:solidFill>
                  <a:srgbClr val="003366"/>
                </a:solidFill>
                <a:latin typeface="Times New Roman"/>
                <a:ea typeface="Arial"/>
              </a:rPr>
              <a:t>’</a:t>
            </a: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alphab</a:t>
            </a:r>
            <a:r>
              <a:rPr b="1" lang="fr-FR" sz="1100" spc="-1" strike="noStrike">
                <a:solidFill>
                  <a:srgbClr val="003366"/>
                </a:solidFill>
                <a:latin typeface="Times New Roman"/>
                <a:ea typeface="Arial"/>
              </a:rPr>
              <a:t>é</a:t>
            </a:r>
            <a:r>
              <a:rPr b="1" lang="fr-FR" sz="1100" spc="-1" strike="noStrike">
                <a:solidFill>
                  <a:srgbClr val="003366"/>
                </a:solidFill>
                <a:latin typeface="Arial"/>
                <a:ea typeface="Arial"/>
              </a:rPr>
              <a:t>tisation des enfants sourds par âge et sexe (%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 : Haut-Commissariat au Plan (2014)</a:t>
            </a:r>
            <a:r>
              <a:rPr b="1" i="1" lang="fr-FR" sz="16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1]</a:t>
            </a:r>
            <a:br>
              <a:rPr sz="3200"/>
            </a:b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971640" y="6453360"/>
            <a:ext cx="59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 baseline="30000">
                <a:solidFill>
                  <a:srgbClr val="954f72"/>
                </a:solidFill>
                <a:uFillTx/>
                <a:latin typeface="Arial"/>
                <a:ea typeface="Times New Roman"/>
              </a:rPr>
              <a:t>[1]</a:t>
            </a: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http://www.hcp.ma/search/handicap/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3366"/>
                </a:solidFill>
                <a:latin typeface="Times New Roman"/>
                <a:cs typeface="Calibri"/>
              </a:rPr>
              <a:t>التعريف الطبي</a:t>
            </a:r>
            <a:br>
              <a:rPr sz="3200"/>
            </a:br>
            <a:r>
              <a:rPr b="0" lang="ar-MA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 تكريس التمثلات</a:t>
            </a:r>
            <a:r>
              <a:rPr b="0" lang="ar-MA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2492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ومن الجانب الطبي يحدد نظام تصنيف شائع الاستخدام المستويات الخاصة لفقدان السمع على أنه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خفيف يعتبر </a:t>
            </a:r>
            <a:r>
              <a:rPr b="0" lang="ar-M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فقدا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السمع م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26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إلى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40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دب)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متوسط بي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41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و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55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(دب)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معتدل الشدة م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56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إلى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70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دب)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عميق بي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71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إلى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90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(دب) وعميق تام من 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91</a:t>
            </a:r>
            <a:r>
              <a:rPr b="0" lang="ar-SA" sz="2400" spc="-1" strike="noStrike">
                <a:solidFill>
                  <a:srgbClr val="003366"/>
                </a:solidFill>
                <a:latin typeface="Times New Roman"/>
                <a:cs typeface="Calibri"/>
              </a:rPr>
              <a:t>دب أو أكث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Times New Roman"/>
              </a:rPr>
              <a:t>ثقافة الصم</a:t>
            </a:r>
            <a:r>
              <a:rPr b="0" lang="ar-M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66"/>
                </a:solidFill>
                <a:latin typeface="Dubai"/>
                <a:cs typeface="Dubai"/>
              </a:rPr>
              <a:t>الصم لم يكونوا أبدا مجموعات متجانسة إلى حد كبير</a:t>
            </a:r>
            <a:r>
              <a:rPr b="0" lang="fr-FR" sz="2800" spc="-1" strike="noStrike">
                <a:solidFill>
                  <a:srgbClr val="003366"/>
                </a:solidFill>
                <a:latin typeface="Dubai"/>
                <a:ea typeface="Dubai"/>
              </a:rPr>
              <a:t>. </a:t>
            </a:r>
            <a:r>
              <a:rPr b="0" lang="ar-SA" sz="2800" spc="-1" strike="noStrike">
                <a:solidFill>
                  <a:srgbClr val="003366"/>
                </a:solidFill>
                <a:latin typeface="Dubai"/>
                <a:cs typeface="Dubai"/>
              </a:rPr>
              <a:t>لأن </a:t>
            </a: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تعددية داخل مجتمع الصم تنشأ عن جوانب مثل اللغة أو النوع أو العرق أو الدين وأي من هذه الجوانب قد تتفاعل تبعا لكل حالة فردية للأصم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وهي تظهر مثالا على ذلك: "امرأة صماء ستواجه هويتها الجنسية في لقاءها مع الصم الرجال، ولكنها ربما تواجه هويتها اللغوية بين مجموعة من السامعين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ea typeface="Dubai"/>
              </a:rPr>
              <a:t> ولهذا فمجتمع الصم غير متجانس أكثر مما يتوقع الكثيرون.........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3366"/>
                </a:solidFill>
                <a:latin typeface="Dubai"/>
                <a:cs typeface="Dubai"/>
              </a:rPr>
              <a:t>لغة الإشارة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859280" y="3429000"/>
            <a:ext cx="3890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لغة عالمية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لغة ليست لها قواعد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مي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لتهجئة الابجدية الإشارية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rcRect l="0" t="0" r="3279" b="0"/>
          <a:stretch/>
        </p:blipFill>
        <p:spPr>
          <a:xfrm>
            <a:off x="684360" y="2060640"/>
            <a:ext cx="39844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6000" spc="-1" strike="noStrike">
                <a:solidFill>
                  <a:srgbClr val="003366"/>
                </a:solidFill>
                <a:latin typeface="Dubai"/>
                <a:cs typeface="Dubai"/>
              </a:rPr>
              <a:t>ا</a:t>
            </a:r>
            <a:r>
              <a:rPr b="1" lang="ar-MA" sz="4000" spc="-1" strike="noStrike">
                <a:solidFill>
                  <a:srgbClr val="003366"/>
                </a:solidFill>
                <a:latin typeface="Dubai"/>
                <a:cs typeface="Dubai"/>
              </a:rPr>
              <a:t>لتمثلا</a:t>
            </a:r>
            <a:r>
              <a:rPr b="1" lang="ar-MA" sz="6000" spc="-1" strike="noStrike">
                <a:solidFill>
                  <a:srgbClr val="003366"/>
                </a:solidFill>
                <a:latin typeface="Dubai"/>
                <a:cs typeface="Dubai"/>
              </a:rPr>
              <a:t>ت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16360" y="2214360"/>
            <a:ext cx="4051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ص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عائلة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مجتمع السامعين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مدرسة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مدرس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3366"/>
                </a:solidFill>
                <a:latin typeface="Dubai"/>
                <a:cs typeface="Dubai"/>
              </a:rPr>
              <a:t>الإعلا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93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66"/>
                </a:solidFill>
                <a:latin typeface="Dubai"/>
                <a:cs typeface="Dubai"/>
              </a:rPr>
              <a:t>كيف يمكن التخلص من التمثلات الإقصائية</a:t>
            </a:r>
            <a:r>
              <a:rPr b="0" lang="ar-MA" sz="3600" spc="-1" strike="noStrike">
                <a:solidFill>
                  <a:srgbClr val="003366"/>
                </a:solidFill>
                <a:latin typeface="Dubai"/>
                <a:ea typeface="Dubai"/>
              </a:rPr>
              <a:t> داخل المدرسة </a:t>
            </a:r>
            <a:r>
              <a:rPr b="0" lang="ar-SA" sz="3600" spc="-1" strike="noStrike">
                <a:solidFill>
                  <a:srgbClr val="003366"/>
                </a:solidFill>
                <a:latin typeface="Dubai"/>
                <a:cs typeface="Dubai"/>
              </a:rPr>
              <a:t>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580000" y="2214360"/>
            <a:ext cx="34005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تكوين المترجمين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تدريب رجال ونساء  التربية على الازدواجية اللغة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اشراك الصم في العملية التعليمية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3366"/>
                </a:solidFill>
                <a:latin typeface="Dubai"/>
                <a:cs typeface="Dubai"/>
              </a:rPr>
              <a:t>تأهيل الفضاء المدرسي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Picture 4" descr="Snowman Emergency"/>
          <p:cNvPicPr/>
          <p:nvPr/>
        </p:nvPicPr>
        <p:blipFill>
          <a:blip r:embed="rId1"/>
          <a:srcRect l="9879" t="0" r="0" b="0"/>
          <a:stretch/>
        </p:blipFill>
        <p:spPr>
          <a:xfrm>
            <a:off x="826920" y="2214720"/>
            <a:ext cx="47530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15:49:42Z</dcterms:created>
  <dc:creator>Abdelaziz Arssi</dc:creator>
  <dc:description/>
  <dc:language>en-US</dc:language>
  <cp:lastModifiedBy>ABDELAZIZ ARSSI</cp:lastModifiedBy>
  <dcterms:modified xsi:type="dcterms:W3CDTF">2019-01-08T12:08:03Z</dcterms:modified>
  <cp:revision>80</cp:revision>
  <dc:subject/>
  <dc:title>The views of people with intellectual disabilities to their present and future living arrangements</dc:title>
</cp:coreProperties>
</file>